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3.gif" ContentType="image/gif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21B-530B-456D-A6CD-ECFECC1D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EDD-135B-42A0-A948-E199D71A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DD8-3899-4DFF-9C54-FAD42EDE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018-F90E-46AD-96EA-5E08ACE8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C29-62C5-43AF-9F3D-C685407B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C97-F033-4640-AA07-B9D2405B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951A-E184-4275-98B6-83D0835B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D64C-3E59-4F8E-85B3-E5CF84DA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BE4-0E9F-4BEF-9C8A-C299AF2D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F08-B1A1-42BF-BDFB-2814B9BF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8D0-6401-4D20-99B4-FACCF23F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880-FFB6-483F-9FBF-D1263969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46F6-56A2-4C1A-A6CF-B53660307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mingxin@itmingxin.com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4,8,&#19968;&#12289;&#20808;&#36827;&#30340;&#31995;&#32479;&#26550;&#26500;" TargetMode="External"/><Relationship Id="rId3" Type="http://schemas.openxmlformats.org/officeDocument/2006/relationships/hyperlink" Target="266,10,&#20108;&#12289;&#22810;&#32423;&#25968;&#25454;&#25972;&#21512;" TargetMode="External"/><Relationship Id="rId4" Type="http://schemas.openxmlformats.org/officeDocument/2006/relationships/hyperlink" Target="268,12,&#19977;&#12289;&#31995;&#32479;&#25552;&#37266;&#21151;&#33021;" TargetMode="External"/><Relationship Id="rId5" Type="http://schemas.openxmlformats.org/officeDocument/2006/relationships/hyperlink" Target="270,14,&#22235;&#12289;&#28789;&#27963;&#30340;&#33258;&#23450;&#20041;&#25253;&#34920;&#21151;&#33021;" TargetMode="External"/><Relationship Id="rId6" Type="http://schemas.openxmlformats.org/officeDocument/2006/relationships/hyperlink" Target="272,16,&#20116;&#12289;&#20840;&#26041;&#20301;&#30340;&#32852;&#21160;&#25628;&#32034;&#26597;&#35810;&#21151;&#33021; " TargetMode="External"/><Relationship Id="rId7" Type="http://schemas.openxmlformats.org/officeDocument/2006/relationships/hyperlink" Target="274,18,&#20845;&#12289;&#20248;&#32654;&#30340;&#22270;&#24418;&#36873;&#21333;" TargetMode="External"/><Relationship Id="rId8" Type="http://schemas.openxmlformats.org/officeDocument/2006/relationships/hyperlink" Target="276,20,&#19971;&#12289;&#26131;&#29992;&#30340;&#24555;&#25463;&#25805;&#20316;" TargetMode="External"/><Relationship Id="rId9" Type="http://schemas.openxmlformats.org/officeDocument/2006/relationships/hyperlink" Target="290,27,&#20843;&#12289;&#27169;&#22359;&#19982;&#33756;&#21333;&#26639;&#21487;&#33258;&#30001;&#22686;&#20943;" TargetMode="External"/><Relationship Id="rId10" Type="http://schemas.openxmlformats.org/officeDocument/2006/relationships/hyperlink" Target="279,22,&#20843;&#12289;&#23433;&#20840;&#21487;&#38752;&#30340;&#31995;&#32479;&#20445;&#38556;" TargetMode="External"/><Relationship Id="rId11" Type="http://schemas.openxmlformats.org/officeDocument/2006/relationships/hyperlink" Target="281,24,&#20061;&#12289;  &#24191;&#27867;&#30340;&#23458;&#25143;&#38656;&#27714;&#36719;&#20214;" TargetMode="External"/><Relationship Id="rId12" Type="http://schemas.openxmlformats.org/officeDocument/2006/relationships/hyperlink" Target="281,24,&#20061;&#12289;  &#24191;&#27867;&#30340;&#23458;&#25143;&#38656;&#27714;&#36719;&#20214;" TargetMode="External"/><Relationship Id="rId13" Type="http://schemas.openxmlformats.org/officeDocument/2006/relationships/hyperlink" Target="282,26,&#21313;&#12289;  &#20010;&#24615;&#21270;&#20108;&#27425;&#24320;&#21457;&#21151;&#33021;" TargetMode="External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3720" y="837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明歆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M23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人事管理系统介绍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6781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服务热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769-851156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0)139243496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邮箱地址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mingxin@itmingxin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欢迎访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itmingxin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30481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微软雅黑"/>
              </a:rPr>
              <a:t>M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lss1" descr=""/>
          <p:cNvPicPr/>
          <p:nvPr/>
        </p:nvPicPr>
        <p:blipFill>
          <a:blip r:embed="rId3"/>
          <a:stretch/>
        </p:blipFill>
        <p:spPr>
          <a:xfrm>
            <a:off x="-68400" y="152280"/>
            <a:ext cx="2202120" cy="2590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63720" y="3200400"/>
            <a:ext cx="678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东莞市明歆计算机软件开发有限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四、灵活的个性化自定义功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3200400"/>
            <a:ext cx="8540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系统可根据各企业的需求，自行取舍栏位、上调整栏位的位置、宽度，自行制定各种所需的表格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7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五、全方位的联动搜索查询功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3352680"/>
            <a:ext cx="8540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系统有通用地址查询功能、可输入主表任意内容为查询条件，轻松方便搜索系统数据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-73080" y="3240"/>
            <a:ext cx="9217080" cy="6856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六、个性化报表定义功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0440" y="2750760"/>
            <a:ext cx="822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系统可根据不同的客户自定义输出客户需所的报表、单据、提供界面上的任意文字名称可改性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-71280" y="3240"/>
            <a:ext cx="9215280" cy="6931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七、易用的快捷操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0440" y="29984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和画面具有象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的右键功能和快捷键，内容资料可以用复制功能。从而达到易用易懂效果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明歆科技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司介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东莞明歆</a:t>
            </a:r>
            <a:r>
              <a:rPr b="0" lang="en-US" sz="1800" spc="-1" strike="noStrike">
                <a:solidFill>
                  <a:srgbClr val="000066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新</a:t>
            </a:r>
            <a:r>
              <a:rPr b="0" lang="en-US" sz="1800" spc="-1" strike="noStrike">
                <a:solidFill>
                  <a:srgbClr val="000066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科技有限公司是一家集软件开发、咨询、实施、技术服务为一体的计算机系统集成的专业化软件公司，明新始终着眼于用户的成功，从而也使他成为本地乃至全国出色的企业信息系统、软件及系统集成解决方案供应商。专业为各行业提供企业管理软件和各种解决方案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宋体"/>
                <a:ea typeface="宋体"/>
              </a:rPr>
              <a:t>    </a:t>
            </a: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目前，明歆</a:t>
            </a:r>
            <a:r>
              <a:rPr b="0" lang="en-US" sz="1800" spc="-1" strike="noStrike">
                <a:solidFill>
                  <a:srgbClr val="000066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新</a:t>
            </a:r>
            <a:r>
              <a:rPr b="0" lang="en-US" sz="1800" spc="-1" strike="noStrike">
                <a:solidFill>
                  <a:srgbClr val="000066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科技有限公司已能为服装、鞋帽、电子、化工、机械、印刷、五金、电镀、手袋、玩具、皮具、国际贸易等众多企业提供计算机信息化系统全面解决方案，包括</a:t>
            </a:r>
            <a:r>
              <a:rPr b="0" lang="en-US" sz="1800" spc="-1" strike="noStrike">
                <a:solidFill>
                  <a:srgbClr val="000066"/>
                </a:solidFill>
                <a:latin typeface="宋体"/>
                <a:ea typeface="宋体"/>
              </a:rPr>
              <a:t>ERP</a:t>
            </a: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管理系统，</a:t>
            </a:r>
            <a:r>
              <a:rPr b="0" lang="en-US" sz="1800" spc="-1" strike="noStrike">
                <a:solidFill>
                  <a:srgbClr val="000066"/>
                </a:solidFill>
                <a:latin typeface="宋体"/>
                <a:ea typeface="宋体"/>
              </a:rPr>
              <a:t>HR</a:t>
            </a: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管理系统，条码管理系统，一卡通（门禁、考勤、饭堂）管理系统、电子看板（生产即时）管理系统等等的全面解决方案的整合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宋体"/>
                <a:ea typeface="宋体"/>
              </a:rPr>
              <a:t>    </a:t>
            </a: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公司拥有一批极具行业背景的企业管理咨询顾问，能帮助企业分析管理中存在的问题，使企业能够成功、合理地运用信息系统创造价值，提升企业竞争力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宋体"/>
                <a:ea typeface="宋体"/>
              </a:rPr>
              <a:t>    </a:t>
            </a:r>
            <a:r>
              <a:rPr b="0" lang="zh-CN" sz="1800" spc="-1" strike="noStrike">
                <a:solidFill>
                  <a:srgbClr val="000066"/>
                </a:solidFill>
                <a:latin typeface="宋体"/>
                <a:ea typeface="宋体"/>
              </a:rPr>
              <a:t>未来的明歆科技将不懈努力，以软件为依托，将不断开拓进取，在高新技术服务方面不断求索，并继续以“实事求是，热心服务” 为宗旨，以满足市场不断变化的客户需求为已任，努力创造优质产品和优质的服务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八、模块与菜单栏可自由增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0440" y="2916360"/>
            <a:ext cx="822960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用户可以自由增减模块，或者模块下的菜单。只留下用户想要的模块与菜单。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九、安全可靠的系统保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0440" y="242208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采用主流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SSQL SERVER2000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大型数据库系统，数据安全无误，系统稳定可靠，数据自动备份保障数据万无一失，数据传输采用先进的数据压缩技术，确保数据交换更加快捷准确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十、广泛的客户需求软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3200040"/>
            <a:ext cx="8540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系统满足所有企业的人力资源管理，考勤，薪资的功能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十一、个性化二次开发功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0440" y="30798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系统还可以提供客户个性化二次开发，以完全满足客户的需求，为客户带来更大的效益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5286600" cy="55152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281916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谢谢大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明歆人事管理软件特色介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/>
              </a:rPr>
              <a:t>一、先进的系统架构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采用先进的模块化结构，可根据各部门的职能，设定不同的权限，使用不同的系统模块，即使相同的系统模块各用户可以设定查看和处理自已的数据，不能查看和修改其他用户的数据资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/>
              </a:rPr>
              <a:t>二、多级数据整合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具有多语言、多公司、多帐套功能、可多地区资料整合，以满足跨国际集团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公司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的跨地区需求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/>
              </a:rPr>
              <a:t>三、系统用户习惯功能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系统可根据不同的用户可自行设定不同的使用习惯和表单，大大提高了用户的方便使用和效率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5"/>
              </a:rPr>
              <a:t>四、灵活的自定义报表功能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可根据和企业的需求，自行取舍栏位、上调整栏位的位置、宽度，自行制定各种所需的表格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6"/>
              </a:rPr>
              <a:t>五、全方位的联动搜索查询功能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　　　　　　　系统有通用地址查询功能、可输入主表任意内容为查询条件，轻松方便搜索系统数据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7"/>
              </a:rPr>
              <a:t>六、个性化输出报表功能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系统可根据不同的客户自定义输出客户需所的报表、单据、提供界面上的任意文字名称可改性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8"/>
              </a:rPr>
              <a:t>七、易用的快捷操作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和画面具有象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的右键功能和快捷键，内容资料可以用复制功能。从而达到易用易懂效果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9"/>
              </a:rPr>
              <a:t>八、模块与菜单栏可自由增减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用户可以自由增减模块，或者模块下的菜单。只留下用户想要的模块与菜单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0"/>
              </a:rPr>
              <a:t>九、安全可靠的系统保障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采用主流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SSQL SERVER2000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大型数据库系统，数据安全无误，系统稳定可靠，数据自动备份保障数据万无一失，数据传输采用先进的数据压缩技术，确保数据交换更加快捷准确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1"/>
              </a:rPr>
              <a:t>十、广泛的客户需求软件：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2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系统满足服装制造型生产的企业外还适合中小型来料加工企业，具有两者兼容并存的功能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3"/>
              </a:rPr>
              <a:t>十一、个性化二次开发功能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系统还可以提供客户个性化二次开发，以完全满足客户的需求，为客户带来更大的效益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、先进的系统架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采用先进的模块化结构，可根据各部门的职能，设定不同的权限，使用不同的系统模块，即使相同的系统模块各用户可以设定查看和处理自已的数据，不能查看和修改其他用户的数据资料，当然主管可以全部资料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1380960"/>
            <a:ext cx="8540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二、多级数据整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具有多语言、多公司、多帐套功能、可多地区资料整合，以满足跨国际集团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公司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的跨地区需求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三、系统用户习惯功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3200040"/>
            <a:ext cx="85406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系统可根据不同的用户可自行设定不同的使用习惯和表单，大大提高了用户的方便使用和效率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09:53:46Z</dcterms:created>
  <dc:creator/>
  <dc:description/>
  <dc:language>en-US</dc:language>
  <cp:lastModifiedBy>luobo</cp:lastModifiedBy>
  <dcterms:modified xsi:type="dcterms:W3CDTF">2013-03-06T03:24:3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721</vt:lpwstr>
  </property>
  <property fmtid="{D5CDD505-2E9C-101B-9397-08002B2CF9AE}" pid="3" name="Version">
    <vt:r8>1</vt:r8>
  </property>
</Properties>
</file>